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78184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99cc"/>
              </a:solidFill>
              <a:latin typeface="Arial Rounded MT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853480" cy="271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78920" y="4022640"/>
            <a:ext cx="8853480" cy="271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78184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99cc"/>
              </a:solidFill>
              <a:latin typeface="Arial Rounded MT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320360" cy="271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5640" y="1052280"/>
            <a:ext cx="4320360" cy="271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78920" y="4022640"/>
            <a:ext cx="4320360" cy="271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15640" y="4022640"/>
            <a:ext cx="4320360" cy="271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78184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99cc"/>
              </a:solidFill>
              <a:latin typeface="Arial Rounded MT 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2850480" cy="271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72320" y="1052280"/>
            <a:ext cx="2850480" cy="271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65720" y="1052280"/>
            <a:ext cx="2850480" cy="271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78920" y="4022640"/>
            <a:ext cx="2850480" cy="271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72320" y="4022640"/>
            <a:ext cx="2850480" cy="271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65720" y="4022640"/>
            <a:ext cx="2850480" cy="271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502DC2-A94B-4F60-A0A2-400E0C2A4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78184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99cc"/>
              </a:solidFill>
              <a:latin typeface="Arial Rounded MT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78920" y="1052280"/>
            <a:ext cx="8853480" cy="56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6A0724-F210-474A-B682-A3148C942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78184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99cc"/>
              </a:solidFill>
              <a:latin typeface="Arial Rounded MT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853480" cy="56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EB1F99-4C5D-412B-B0C9-42FA659CE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78184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99cc"/>
              </a:solidFill>
              <a:latin typeface="Arial Rounded MT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320360" cy="56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15640" y="1052280"/>
            <a:ext cx="4320360" cy="56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1FBF51-FD25-424B-B8EC-518FA078D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78184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99cc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44113E-7AF7-431B-AEE8-72E57638B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08000" y="0"/>
            <a:ext cx="8781840" cy="419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A72E72-3DE5-4FC8-90D3-67532D7B8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78184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99cc"/>
              </a:solidFill>
              <a:latin typeface="Arial Rounded MT 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320360" cy="271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5640" y="1052280"/>
            <a:ext cx="4320360" cy="56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78920" y="4022640"/>
            <a:ext cx="4320360" cy="271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A1715D-90F6-4AA0-8F36-B1EEDDA4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78184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99cc"/>
              </a:solidFill>
              <a:latin typeface="Arial Rounded MT 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78920" y="1052280"/>
            <a:ext cx="8853480" cy="56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78184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99cc"/>
              </a:solidFill>
              <a:latin typeface="Arial Rounded MT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320360" cy="56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5640" y="1052280"/>
            <a:ext cx="4320360" cy="271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15640" y="4022640"/>
            <a:ext cx="4320360" cy="271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C1F9EA-0880-424D-9F49-819C4F46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78184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99cc"/>
              </a:solidFill>
              <a:latin typeface="Arial Rounded MT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320360" cy="271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5640" y="1052280"/>
            <a:ext cx="4320360" cy="271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78920" y="4022640"/>
            <a:ext cx="8853480" cy="271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6DF617-3531-42E3-B21F-AF7337B2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78184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99cc"/>
              </a:solidFill>
              <a:latin typeface="Arial Rounded MT Bol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853480" cy="271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78920" y="4022640"/>
            <a:ext cx="8853480" cy="271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F3756C-F280-4D37-A3AF-394637381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78184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99cc"/>
              </a:solidFill>
              <a:latin typeface="Arial Rounded MT 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320360" cy="271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5640" y="1052280"/>
            <a:ext cx="4320360" cy="271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78920" y="4022640"/>
            <a:ext cx="4320360" cy="271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15640" y="4022640"/>
            <a:ext cx="4320360" cy="271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7FE4F8-85D3-460D-8D50-39DFDFAAF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78184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99cc"/>
              </a:solidFill>
              <a:latin typeface="Arial Rounded MT Bol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2850480" cy="271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72320" y="1052280"/>
            <a:ext cx="2850480" cy="271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65720" y="1052280"/>
            <a:ext cx="2850480" cy="271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78920" y="4022640"/>
            <a:ext cx="2850480" cy="271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72320" y="4022640"/>
            <a:ext cx="2850480" cy="271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65720" y="4022640"/>
            <a:ext cx="2850480" cy="271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123DA8-9597-4C1A-A445-ADE0E8F9F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78184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99cc"/>
              </a:solidFill>
              <a:latin typeface="Arial Rounded MT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853480" cy="56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78184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99cc"/>
              </a:solidFill>
              <a:latin typeface="Arial Rounded MT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320360" cy="56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15640" y="1052280"/>
            <a:ext cx="4320360" cy="56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78184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99cc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08000" y="0"/>
            <a:ext cx="8781840" cy="419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78184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99cc"/>
              </a:solidFill>
              <a:latin typeface="Arial Rounded MT 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320360" cy="271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5640" y="1052280"/>
            <a:ext cx="4320360" cy="56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78920" y="4022640"/>
            <a:ext cx="4320360" cy="271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78184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99cc"/>
              </a:solidFill>
              <a:latin typeface="Arial Rounded MT 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320360" cy="56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5640" y="1052280"/>
            <a:ext cx="4320360" cy="271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15640" y="4022640"/>
            <a:ext cx="4320360" cy="271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78184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99cc"/>
              </a:solidFill>
              <a:latin typeface="Arial Rounded MT 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320360" cy="271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5640" y="1052280"/>
            <a:ext cx="4320360" cy="271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78920" y="4022640"/>
            <a:ext cx="8853480" cy="271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78184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99cc"/>
                </a:solidFill>
                <a:latin typeface="Arial Rounded MT Bold"/>
              </a:rPr>
              <a:t>Click to edit the title text format</a:t>
            </a:r>
            <a:endParaRPr b="1" lang="en-US" sz="3600" spc="-1" strike="noStrike">
              <a:solidFill>
                <a:srgbClr val="0099cc"/>
              </a:solidFill>
              <a:latin typeface="Arial Rounded MT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8920" y="1052280"/>
            <a:ext cx="8853480" cy="56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 Rounded MT Bold"/>
              </a:rPr>
              <a:t>Click to edit the outline text format</a:t>
            </a: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 Rounded MT Bold"/>
              </a:rPr>
              <a:t>Second Outline Level</a:t>
            </a: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 Rounded MT Bold"/>
              </a:rPr>
              <a:t>Third Outline Level</a:t>
            </a: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 Rounded MT Bold"/>
              </a:rPr>
              <a:t>Fourth Outline Level</a:t>
            </a: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 Rounded MT Bold"/>
              </a:rPr>
              <a:t>Fifth Outline Level</a:t>
            </a: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 Rounded MT Bold"/>
              </a:rPr>
              <a:t>Sixth Outline Level</a:t>
            </a: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 Rounded MT Bold"/>
              </a:rPr>
              <a:t>Seventh Outline Level</a:t>
            </a: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8532360" y="6597720"/>
            <a:ext cx="6080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03B048-FC55-4DC8-A54E-5ABD61EB271D}" type="slidenum"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2"/>
          </p:nvPr>
        </p:nvSpPr>
        <p:spPr>
          <a:xfrm>
            <a:off x="457200" y="6246360"/>
            <a:ext cx="21240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3"/>
          </p:nvPr>
        </p:nvSpPr>
        <p:spPr>
          <a:xfrm>
            <a:off x="3126960" y="6246360"/>
            <a:ext cx="28926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4"/>
          </p:nvPr>
        </p:nvSpPr>
        <p:spPr>
          <a:xfrm>
            <a:off x="6556320" y="6246360"/>
            <a:ext cx="21240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D9DD423-D481-4FC9-A4C1-D998CC1B1059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08000" y="0"/>
            <a:ext cx="8785080" cy="67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4000" spc="-1" strike="noStrike">
                <a:solidFill>
                  <a:srgbClr val="0000ff"/>
                </a:solidFill>
                <a:latin typeface="Arial Rounded MT Bold"/>
                <a:ea typeface="Microsoft YaHei"/>
              </a:rPr>
              <a:t>Interior Routing protoc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349"/>
              </a:spcBef>
              <a:spcAft>
                <a:spcPts val="850"/>
              </a:spcAft>
              <a:buClr>
                <a:srgbClr val="5f5f5f"/>
              </a:buClr>
              <a:buFont typeface="Wingdings" charset="2"/>
              <a:buChar char="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2200" spc="-1" strike="noStrike">
                <a:solidFill>
                  <a:srgbClr val="000080"/>
                </a:solidFill>
                <a:latin typeface="Arial Rounded MT Bold"/>
                <a:ea typeface="Microsoft YaHei"/>
              </a:rPr>
              <a:t> </a:t>
            </a:r>
            <a:r>
              <a:rPr b="1" lang="en-CA" sz="2200" spc="-1" strike="noStrike">
                <a:solidFill>
                  <a:srgbClr val="000080"/>
                </a:solidFill>
                <a:latin typeface="Arial Rounded MT Bold"/>
                <a:ea typeface="Microsoft YaHei"/>
              </a:rPr>
              <a:t>Distance Victor Routing Protoc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349"/>
              </a:spcBef>
              <a:spcAft>
                <a:spcPts val="850"/>
              </a:spcAft>
              <a:buClr>
                <a:srgbClr val="5f5f5f"/>
              </a:buClr>
              <a:buFont typeface="Wingdings" charset="2"/>
              <a:buChar char="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2200" spc="-1" strike="noStrike">
                <a:solidFill>
                  <a:srgbClr val="000080"/>
                </a:solidFill>
                <a:latin typeface="Arial Rounded MT Bold"/>
                <a:ea typeface="Microsoft YaHei"/>
              </a:rPr>
              <a:t> </a:t>
            </a:r>
            <a:r>
              <a:rPr b="1" lang="en-CA" sz="2200" spc="-1" strike="noStrike">
                <a:solidFill>
                  <a:srgbClr val="000080"/>
                </a:solidFill>
                <a:latin typeface="Arial Rounded MT Bold"/>
                <a:ea typeface="Microsoft YaHei"/>
              </a:rPr>
              <a:t>Link State Routing Protoc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503280" y="2365200"/>
            <a:ext cx="841212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 Rounded MT Bold"/>
                <a:ea typeface="Microsoft YaHei"/>
              </a:rPr>
              <a:t>triggerded upd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9280" y="944640"/>
            <a:ext cx="8785440" cy="23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560" rIns="88560" tIns="43560" bIns="43560" anchor="b">
            <a:noAutofit/>
          </a:bodyPr>
          <a:p>
            <a:pPr>
              <a:lnSpc>
                <a:spcPct val="100000"/>
              </a:lnSpc>
              <a:spcBef>
                <a:spcPts val="1701"/>
              </a:spcBef>
              <a:spcAft>
                <a:spcPts val="17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 Rounded MT Bold"/>
              </a:rPr>
              <a:t>If the link A-D failes, A &amp; D will update thier table with value of </a:t>
            </a:r>
            <a:r>
              <a:rPr b="0" lang="fr-FR" sz="2000" spc="-1" strike="noStrike">
                <a:solidFill>
                  <a:srgbClr val="000000"/>
                </a:solidFill>
                <a:latin typeface="Sylfaen"/>
                <a:ea typeface="Microsoft YaHei"/>
              </a:rPr>
              <a:t>16</a:t>
            </a:r>
            <a:r>
              <a:rPr b="0" lang="en-CA" sz="2400" spc="-1" strike="noStrike">
                <a:solidFill>
                  <a:srgbClr val="000000"/>
                </a:solidFill>
                <a:latin typeface="Arial Rounded MT Bold"/>
              </a:rPr>
              <a:t> (</a:t>
            </a:r>
            <a:r>
              <a:rPr b="0" lang="fr-FR" sz="2000" spc="-1" strike="noStrike">
                <a:solidFill>
                  <a:srgbClr val="000000"/>
                </a:solidFill>
                <a:latin typeface="Sylfaen"/>
                <a:ea typeface="Microsoft YaHei"/>
              </a:rPr>
              <a:t>∞</a:t>
            </a:r>
            <a:r>
              <a:rPr b="0" lang="en-CA" sz="2400" spc="-1" strike="noStrike">
                <a:solidFill>
                  <a:srgbClr val="000000"/>
                </a:solidFill>
                <a:latin typeface="Arial Rounded MT Bold"/>
              </a:rPr>
              <a:t> : unreachable)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 Rounded MT Bold"/>
              </a:rPr>
              <a:t>A &amp; D will send triggered updates (their entire) table to their neighbors. 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 Rounded MT Bold"/>
              </a:rPr>
              <a:t>This causes the network to recalculate Bellman algorithm. Finally the network will converge after a whi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35640" y="438768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1600" spc="-1" strike="noStrike">
                <a:solidFill>
                  <a:srgbClr val="3366cc"/>
                </a:solidFill>
                <a:latin typeface="Arial"/>
              </a:rPr>
              <a:t>A 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612880" y="38160"/>
            <a:ext cx="462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4000" spc="-1" strike="noStrike">
                <a:solidFill>
                  <a:srgbClr val="0000ff"/>
                </a:solidFill>
                <a:latin typeface="Arial Rounded MT Bold"/>
              </a:rPr>
              <a:t>IN RIP</a:t>
            </a:r>
            <a:r>
              <a:rPr b="1" lang="en-CA" sz="2200" spc="-1" strike="noStrike">
                <a:solidFill>
                  <a:srgbClr val="000080"/>
                </a:solidFill>
                <a:latin typeface="Arial Rounded MT Bold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859280" y="3095640"/>
          <a:ext cx="4176720" cy="33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3095640"/>
                    <a:ext cx="4176720" cy="33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5904000" y="4843440"/>
            <a:ext cx="863640" cy="1440"/>
          </a:xfrm>
          <a:prstGeom prst="line">
            <a:avLst/>
          </a:prstGeom>
          <a:ln cap="sq" w="6840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983280" y="5111640"/>
            <a:ext cx="1800" cy="432000"/>
          </a:xfrm>
          <a:prstGeom prst="line">
            <a:avLst/>
          </a:prstGeom>
          <a:ln cap="sq" w="68400">
            <a:solidFill>
              <a:srgbClr val="94006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48360" y="5178600"/>
            <a:ext cx="49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272360" y="568800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1600" spc="-1" strike="noStrike">
                <a:solidFill>
                  <a:srgbClr val="800080"/>
                </a:solidFill>
                <a:latin typeface="Arial"/>
              </a:rPr>
              <a:t>D 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904000" y="4608360"/>
            <a:ext cx="863640" cy="1800"/>
          </a:xfrm>
          <a:prstGeom prst="line">
            <a:avLst/>
          </a:prstGeom>
          <a:ln cap="sq" w="684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7272360" y="4821120"/>
            <a:ext cx="1440" cy="717840"/>
          </a:xfrm>
          <a:prstGeom prst="line">
            <a:avLst/>
          </a:prstGeom>
          <a:ln cap="sq" w="684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97680" y="431964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1600" spc="-1" strike="noStrike">
                <a:solidFill>
                  <a:srgbClr val="ff0000"/>
                </a:solidFill>
                <a:latin typeface="Arial"/>
              </a:rPr>
              <a:t>C 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726160" y="3739680"/>
            <a:ext cx="1042920" cy="887400"/>
          </a:xfrm>
          <a:prstGeom prst="line">
            <a:avLst/>
          </a:prstGeom>
          <a:ln cap="sq" w="6840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7196040" y="5040360"/>
            <a:ext cx="1230480" cy="720720"/>
          </a:xfrm>
          <a:prstGeom prst="line">
            <a:avLst/>
          </a:prstGeom>
          <a:ln cap="sq" w="68400">
            <a:solidFill>
              <a:srgbClr val="94006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820800" y="4017960"/>
          <a:ext cx="2708280" cy="2103480"/>
        </p:xfrm>
        <a:graphic>
          <a:graphicData uri="http://schemas.openxmlformats.org/drawingml/2006/table">
            <a:tbl>
              <a:tblPr/>
              <a:tblGrid>
                <a:gridCol w="347760"/>
                <a:gridCol w="455400"/>
                <a:gridCol w="482760"/>
                <a:gridCol w="511200"/>
                <a:gridCol w="496800"/>
                <a:gridCol w="414360"/>
              </a:tblGrid>
              <a:tr h="402480"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1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ff0000"/>
                          </a:solidFill>
                          <a:latin typeface="Sylfaen"/>
                        </a:rPr>
                        <a:t>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ff0000"/>
                          </a:solidFill>
                          <a:latin typeface="Sylfaen"/>
                          <a:ea typeface="Microsoft YaHe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CA" sz="1500" spc="-1" strike="noStrike">
                          <a:solidFill>
                            <a:srgbClr val="ff00ff"/>
                          </a:solidFill>
                          <a:latin typeface="Sylfaen"/>
                          <a:ea typeface="Microsoft YaHei"/>
                        </a:rPr>
                        <a:t>∞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ff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ff0000"/>
                          </a:solidFill>
                          <a:latin typeface="Sylfaen"/>
                          <a:ea typeface="Microsoft YaHei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CA" sz="1500" spc="-1" strike="noStrike">
                          <a:solidFill>
                            <a:srgbClr val="0000ff"/>
                          </a:solidFill>
                          <a:latin typeface="Sylfaen"/>
                          <a:ea typeface="Microsoft YaHei"/>
                        </a:rPr>
                        <a:t>∞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ff0000"/>
                          </a:solidFill>
                          <a:latin typeface="Sylfaen"/>
                          <a:ea typeface="Microsoft YaHe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ff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03280" y="996840"/>
            <a:ext cx="841212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 Rounded MT Bold"/>
                <a:ea typeface="Microsoft YaHei"/>
              </a:rPr>
              <a:t>Final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612880" y="38160"/>
            <a:ext cx="462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4000" spc="-1" strike="noStrike">
                <a:solidFill>
                  <a:srgbClr val="0000ff"/>
                </a:solidFill>
                <a:latin typeface="Arial Rounded MT Bold"/>
              </a:rPr>
              <a:t>IN RIP</a:t>
            </a:r>
            <a:r>
              <a:rPr b="1" lang="en-CA" sz="2200" spc="-1" strike="noStrike">
                <a:solidFill>
                  <a:srgbClr val="000080"/>
                </a:solidFill>
                <a:latin typeface="Arial Rounded MT Bold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859280" y="3095640"/>
          <a:ext cx="4176720" cy="33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3095640"/>
                    <a:ext cx="4176720" cy="33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5904000" y="4843440"/>
            <a:ext cx="863640" cy="1440"/>
          </a:xfrm>
          <a:prstGeom prst="line">
            <a:avLst/>
          </a:prstGeom>
          <a:ln cap="sq" w="68400">
            <a:solidFill>
              <a:srgbClr val="004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48360" y="5178600"/>
            <a:ext cx="49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6981840" y="5110200"/>
            <a:ext cx="1440" cy="434880"/>
          </a:xfrm>
          <a:prstGeom prst="line">
            <a:avLst/>
          </a:prstGeom>
          <a:ln cap="sq" w="68400">
            <a:solidFill>
              <a:srgbClr val="0047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726160" y="3739680"/>
            <a:ext cx="1042920" cy="887400"/>
          </a:xfrm>
          <a:prstGeom prst="line">
            <a:avLst/>
          </a:prstGeom>
          <a:ln cap="sq" w="68400">
            <a:solidFill>
              <a:srgbClr val="004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7198920" y="3743280"/>
            <a:ext cx="1227240" cy="866880"/>
          </a:xfrm>
          <a:prstGeom prst="line">
            <a:avLst/>
          </a:prstGeom>
          <a:ln cap="sq" w="68400">
            <a:solidFill>
              <a:srgbClr val="0047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819000" y="2936880"/>
          <a:ext cx="2708280" cy="2103480"/>
        </p:xfrm>
        <a:graphic>
          <a:graphicData uri="http://schemas.openxmlformats.org/drawingml/2006/table">
            <a:tbl>
              <a:tblPr/>
              <a:tblGrid>
                <a:gridCol w="347760"/>
                <a:gridCol w="455760"/>
                <a:gridCol w="482400"/>
                <a:gridCol w="511200"/>
                <a:gridCol w="496800"/>
                <a:gridCol w="414360"/>
              </a:tblGrid>
              <a:tr h="402480"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1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8" name=""/>
          <p:cNvSpPr/>
          <p:nvPr/>
        </p:nvSpPr>
        <p:spPr>
          <a:xfrm>
            <a:off x="4535640" y="449568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1600" spc="-1" strike="noStrike">
                <a:solidFill>
                  <a:srgbClr val="3366cc"/>
                </a:solidFill>
                <a:latin typeface="Arial"/>
              </a:rPr>
              <a:t>SPT for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60360" y="735120"/>
            <a:ext cx="878508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560" rIns="88560" tIns="43560" bIns="43560" anchor="b">
            <a:noAutofit/>
          </a:bodyPr>
          <a:p>
            <a:pPr>
              <a:lnSpc>
                <a:spcPct val="100000"/>
              </a:lnSpc>
              <a:spcBef>
                <a:spcPts val="1638"/>
              </a:spcBef>
              <a:spcAft>
                <a:spcPts val="1137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Rounded MT Bold"/>
              </a:rPr>
              <a:t>Each router advertises its LSA with link information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 Rounded MT Bold"/>
              </a:rPr>
              <a:t>Each router will have a copy of the entire topology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 Rounded MT Bold"/>
              </a:rPr>
              <a:t>The shortest path tree is calculated using 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</a:rPr>
              <a:t>Dijkstra algorithm</a:t>
            </a:r>
            <a:r>
              <a:rPr b="0" lang="fr-FR" sz="2000" spc="-1" strike="noStrike">
                <a:solidFill>
                  <a:srgbClr val="000000"/>
                </a:solidFill>
                <a:latin typeface="Arial Rounded MT Bold"/>
              </a:rPr>
              <a:t> on each rou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859280" y="3095640"/>
          <a:ext cx="4176720" cy="33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3095640"/>
                    <a:ext cx="4176720" cy="33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2612880" y="38160"/>
            <a:ext cx="462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4000" spc="-1" strike="noStrike">
                <a:solidFill>
                  <a:srgbClr val="0000ff"/>
                </a:solidFill>
                <a:latin typeface="Arial Rounded MT Bold"/>
              </a:rPr>
              <a:t>IN Link State</a:t>
            </a:r>
            <a:r>
              <a:rPr b="1" lang="en-CA" sz="2200" spc="-1" strike="noStrike">
                <a:solidFill>
                  <a:srgbClr val="000080"/>
                </a:solidFill>
                <a:latin typeface="Arial Rounded MT Bold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63680" y="3070080"/>
          <a:ext cx="4071600" cy="2103480"/>
        </p:xfrm>
        <a:graphic>
          <a:graphicData uri="http://schemas.openxmlformats.org/drawingml/2006/table">
            <a:tbl>
              <a:tblPr/>
              <a:tblGrid>
                <a:gridCol w="521640"/>
                <a:gridCol w="685440"/>
                <a:gridCol w="725760"/>
                <a:gridCol w="767880"/>
                <a:gridCol w="747360"/>
                <a:gridCol w="623520"/>
              </a:tblGrid>
              <a:tr h="428040">
                <a:tc>
                  <a:txBody>
                    <a:bodyPr lIns="90000" rIns="90000" tIns="7596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638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776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638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776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638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776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638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776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638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776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638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7960"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638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1638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1638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1638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1638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638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1638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1638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1638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1638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638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1638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1638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1638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1638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638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1638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1638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1638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1638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638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1638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1638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1638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1638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638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1638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1638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1638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1638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4824360" y="71280"/>
          <a:ext cx="4176720" cy="334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4360" y="71280"/>
                    <a:ext cx="4176720" cy="334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2612880" y="38160"/>
            <a:ext cx="462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4000" spc="-1" strike="noStrike">
                <a:solidFill>
                  <a:srgbClr val="0000ff"/>
                </a:solidFill>
                <a:latin typeface="Arial Rounded MT Bold"/>
              </a:rPr>
              <a:t>IN Link State</a:t>
            </a:r>
            <a:r>
              <a:rPr b="1" lang="en-CA" sz="2200" spc="-1" strike="noStrike">
                <a:solidFill>
                  <a:srgbClr val="000080"/>
                </a:solidFill>
                <a:latin typeface="Arial Rounded MT Bold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052640" y="3230640"/>
          <a:ext cx="7815240" cy="2103120"/>
        </p:xfrm>
        <a:graphic>
          <a:graphicData uri="http://schemas.openxmlformats.org/drawingml/2006/table">
            <a:tbl>
              <a:tblPr/>
              <a:tblGrid>
                <a:gridCol w="1003320"/>
                <a:gridCol w="1314360"/>
                <a:gridCol w="1393920"/>
                <a:gridCol w="1473120"/>
                <a:gridCol w="1434960"/>
                <a:gridCol w="1195560"/>
              </a:tblGrid>
              <a:tr h="363240">
                <a:tc>
                  <a:txBody>
                    <a:bodyPr lIns="90000" rIns="90000" tIns="694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e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'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32040" bIns="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(B) P(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32040" bIns="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(C) P(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32040" bIns="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(D) P(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32040" bIns="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(E) P(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89440">
                <a:tc>
                  <a:txBody>
                    <a:bodyPr lIns="90000" rIns="90000" tIns="694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94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2268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,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∞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2268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2268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2268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∞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∞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8" name=""/>
          <p:cNvSpPr/>
          <p:nvPr/>
        </p:nvSpPr>
        <p:spPr>
          <a:xfrm>
            <a:off x="360360" y="1344600"/>
            <a:ext cx="87850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560" rIns="88560" tIns="43560" bIns="43560" anchor="b">
            <a:noAutofit/>
          </a:bodyPr>
          <a:p>
            <a:pPr>
              <a:lnSpc>
                <a:spcPct val="100000"/>
              </a:lnSpc>
              <a:spcBef>
                <a:spcPts val="1638"/>
              </a:spcBef>
              <a:spcAft>
                <a:spcPts val="1137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Rounded MT Bold"/>
              </a:rPr>
              <a:t>Here we are calculating RT for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2152800" y="3029040"/>
          <a:ext cx="4867200" cy="370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2800" y="3029040"/>
                    <a:ext cx="4867200" cy="37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431640" y="144360"/>
            <a:ext cx="842508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4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  <a:ea typeface="Microsoft YaHei"/>
              </a:rPr>
              <a:t>E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4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  <a:ea typeface="Microsoft YaHei"/>
              </a:rPr>
              <a:t>A) Using the topological below, write the routing table for Router A if it ru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480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Distance Victor R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480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Link State R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480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R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480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OSP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4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B) What happens if the link between A &amp; D goes dow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DB8328-1CE5-44E9-8B86-609CDEF3199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612880" y="38160"/>
            <a:ext cx="462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4000" spc="-1" strike="noStrike">
                <a:solidFill>
                  <a:srgbClr val="0000ff"/>
                </a:solidFill>
                <a:latin typeface="Arial Rounded MT Bold"/>
              </a:rPr>
              <a:t>IN Distance Victor</a:t>
            </a:r>
            <a:r>
              <a:rPr b="1" lang="en-CA" sz="2200" spc="-1" strike="noStrike">
                <a:solidFill>
                  <a:srgbClr val="000080"/>
                </a:solidFill>
                <a:latin typeface="Arial Rounded MT Bold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9880" y="1465200"/>
            <a:ext cx="841248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Rounded MT Bold"/>
              </a:rPr>
              <a:t>Each router knows directly connected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Rounded MT Bold"/>
              </a:rPr>
              <a:t>Periodic updates are exchanges between adjacencies (nieghbour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0360" y="395280"/>
            <a:ext cx="878508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560" rIns="88560" tIns="43560" bIns="435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2800" spc="-1" strike="noStrike">
                <a:solidFill>
                  <a:srgbClr val="0099cc"/>
                </a:solidFill>
                <a:latin typeface="Arial Rounded MT Bold"/>
              </a:rPr>
              <a:t>Initial routing 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57120" y="2459160"/>
          <a:ext cx="2708280" cy="774720"/>
        </p:xfrm>
        <a:graphic>
          <a:graphicData uri="http://schemas.openxmlformats.org/drawingml/2006/table">
            <a:tbl>
              <a:tblPr/>
              <a:tblGrid>
                <a:gridCol w="347760"/>
                <a:gridCol w="455760"/>
                <a:gridCol w="482400"/>
                <a:gridCol w="511200"/>
                <a:gridCol w="496800"/>
                <a:gridCol w="414360"/>
              </a:tblGrid>
              <a:tr h="402480"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∞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357120" y="3311640"/>
          <a:ext cx="2708280" cy="758880"/>
        </p:xfrm>
        <a:graphic>
          <a:graphicData uri="http://schemas.openxmlformats.org/drawingml/2006/table">
            <a:tbl>
              <a:tblPr/>
              <a:tblGrid>
                <a:gridCol w="347760"/>
                <a:gridCol w="455760"/>
                <a:gridCol w="482400"/>
                <a:gridCol w="511200"/>
                <a:gridCol w="496800"/>
                <a:gridCol w="414360"/>
              </a:tblGrid>
              <a:tr h="402480"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∞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∞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345960" y="4159080"/>
          <a:ext cx="2708280" cy="774720"/>
        </p:xfrm>
        <a:graphic>
          <a:graphicData uri="http://schemas.openxmlformats.org/drawingml/2006/table">
            <a:tbl>
              <a:tblPr/>
              <a:tblGrid>
                <a:gridCol w="347760"/>
                <a:gridCol w="455760"/>
                <a:gridCol w="482400"/>
                <a:gridCol w="511200"/>
                <a:gridCol w="496800"/>
                <a:gridCol w="414360"/>
              </a:tblGrid>
              <a:tr h="402480"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∞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∞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385920" y="4997520"/>
          <a:ext cx="2708280" cy="774720"/>
        </p:xfrm>
        <a:graphic>
          <a:graphicData uri="http://schemas.openxmlformats.org/drawingml/2006/table">
            <a:tbl>
              <a:tblPr/>
              <a:tblGrid>
                <a:gridCol w="347400"/>
                <a:gridCol w="455760"/>
                <a:gridCol w="482400"/>
                <a:gridCol w="511200"/>
                <a:gridCol w="497160"/>
                <a:gridCol w="414360"/>
              </a:tblGrid>
              <a:tr h="402480"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7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∞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372960" y="5875200"/>
          <a:ext cx="2708280" cy="774720"/>
        </p:xfrm>
        <a:graphic>
          <a:graphicData uri="http://schemas.openxmlformats.org/drawingml/2006/table">
            <a:tbl>
              <a:tblPr/>
              <a:tblGrid>
                <a:gridCol w="347760"/>
                <a:gridCol w="455760"/>
                <a:gridCol w="482400"/>
                <a:gridCol w="511200"/>
                <a:gridCol w="496800"/>
                <a:gridCol w="414360"/>
              </a:tblGrid>
              <a:tr h="402480"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∞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∞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4859280" y="3095640"/>
          <a:ext cx="4176720" cy="33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3095640"/>
                    <a:ext cx="4176720" cy="33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99880" y="1465200"/>
            <a:ext cx="841248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Rounded MT Bold"/>
              </a:rPr>
              <a:t>Dx(y) = minv {c(x,v) + Dv(y)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Rounded MT Bold"/>
              </a:rPr>
              <a:t>Bellman Ford algorthem is calculated in each router to find the shortest path t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0360" y="395280"/>
            <a:ext cx="878508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560" rIns="88560" tIns="43560" bIns="435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2800" spc="-1" strike="noStrike">
                <a:solidFill>
                  <a:srgbClr val="0099cc"/>
                </a:solidFill>
                <a:latin typeface="Arial Rounded MT Bold"/>
              </a:rPr>
              <a:t>Initial routing 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733320" y="2854440"/>
          <a:ext cx="2708280" cy="2103480"/>
        </p:xfrm>
        <a:graphic>
          <a:graphicData uri="http://schemas.openxmlformats.org/drawingml/2006/table">
            <a:tbl>
              <a:tblPr/>
              <a:tblGrid>
                <a:gridCol w="347760"/>
                <a:gridCol w="455760"/>
                <a:gridCol w="482400"/>
                <a:gridCol w="511200"/>
                <a:gridCol w="496800"/>
                <a:gridCol w="414360"/>
              </a:tblGrid>
              <a:tr h="402480"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1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8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∞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∞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∞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∞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∞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∞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∞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∞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620640" y="5616720"/>
            <a:ext cx="436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1600" spc="-1" strike="noStrike">
                <a:solidFill>
                  <a:srgbClr val="3366cc"/>
                </a:solidFill>
                <a:latin typeface="Arial"/>
              </a:rPr>
              <a:t>We need to fill this table using the algortim so that each router knows the SP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859280" y="3095640"/>
          <a:ext cx="4176720" cy="33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3095640"/>
                    <a:ext cx="4176720" cy="33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612880" y="38160"/>
            <a:ext cx="462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4000" spc="-1" strike="noStrike">
                <a:solidFill>
                  <a:srgbClr val="0000ff"/>
                </a:solidFill>
                <a:latin typeface="Arial Rounded MT Bold"/>
              </a:rPr>
              <a:t>IN Distance Victor</a:t>
            </a:r>
            <a:r>
              <a:rPr b="1" lang="en-CA" sz="2200" spc="-1" strike="noStrike">
                <a:solidFill>
                  <a:srgbClr val="000080"/>
                </a:solidFill>
                <a:latin typeface="Arial Rounded MT Bold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72960" y="1322280"/>
            <a:ext cx="841212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D</a:t>
            </a:r>
            <a:r>
              <a:rPr b="0" lang="fr-FR" sz="13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A</a:t>
            </a:r>
            <a:r>
              <a:rPr b="0" lang="fr-FR" sz="20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(D) = min {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c(</a:t>
            </a:r>
            <a:r>
              <a:rPr b="1" lang="fr-FR" sz="2000" spc="-1" strike="noStrike">
                <a:solidFill>
                  <a:srgbClr val="00ae00"/>
                </a:solidFill>
                <a:latin typeface="Arial Rounded MT Bold"/>
                <a:ea typeface="Microsoft YaHei"/>
              </a:rPr>
              <a:t>A,B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)</a:t>
            </a:r>
            <a:r>
              <a:rPr b="0" lang="fr-FR" sz="20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+</a:t>
            </a:r>
            <a:r>
              <a:rPr b="0" lang="fr-FR" sz="20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D</a:t>
            </a:r>
            <a:r>
              <a:rPr b="1" lang="fr-FR" sz="1300" spc="-1" strike="noStrike">
                <a:solidFill>
                  <a:srgbClr val="00ae00"/>
                </a:solidFill>
                <a:latin typeface="Arial Rounded MT Bold"/>
                <a:ea typeface="Microsoft YaHei"/>
              </a:rPr>
              <a:t>B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(</a:t>
            </a:r>
            <a:r>
              <a:rPr b="1" lang="fr-FR" sz="2000" spc="-1" strike="noStrike">
                <a:solidFill>
                  <a:srgbClr val="00ae00"/>
                </a:solidFill>
                <a:latin typeface="Arial Rounded MT Bold"/>
                <a:ea typeface="Microsoft YaHei"/>
              </a:rPr>
              <a:t>D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)</a:t>
            </a:r>
            <a:r>
              <a:rPr b="0" lang="fr-FR" sz="20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,     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c(</a:t>
            </a:r>
            <a:r>
              <a:rPr b="1" lang="fr-FR" sz="2000" spc="-1" strike="noStrike">
                <a:solidFill>
                  <a:srgbClr val="000080"/>
                </a:solidFill>
                <a:latin typeface="Arial Rounded MT Bold"/>
                <a:ea typeface="Microsoft YaHei"/>
              </a:rPr>
              <a:t>A,D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) + D</a:t>
            </a:r>
            <a:r>
              <a:rPr b="1" lang="fr-FR" sz="1300" spc="-1" strike="noStrike">
                <a:solidFill>
                  <a:srgbClr val="000080"/>
                </a:solidFill>
                <a:latin typeface="Arial Rounded MT Bold"/>
                <a:ea typeface="Microsoft YaHei"/>
              </a:rPr>
              <a:t>D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(</a:t>
            </a:r>
            <a:r>
              <a:rPr b="1" lang="fr-FR" sz="2000" spc="-1" strike="noStrike">
                <a:solidFill>
                  <a:srgbClr val="000080"/>
                </a:solidFill>
                <a:latin typeface="Arial Rounded MT Bold"/>
                <a:ea typeface="Microsoft YaHei"/>
              </a:rPr>
              <a:t>D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),     c(</a:t>
            </a:r>
            <a:r>
              <a:rPr b="1" lang="fr-FR" sz="2000" spc="-1" strike="noStrike">
                <a:solidFill>
                  <a:srgbClr val="993366"/>
                </a:solidFill>
                <a:latin typeface="Arial Rounded MT Bold"/>
                <a:ea typeface="Microsoft YaHei"/>
              </a:rPr>
              <a:t>A,C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) + D</a:t>
            </a:r>
            <a:r>
              <a:rPr b="1" lang="fr-FR" sz="1300" spc="-1" strike="noStrike">
                <a:solidFill>
                  <a:srgbClr val="993366"/>
                </a:solidFill>
                <a:latin typeface="Arial Rounded MT Bold"/>
                <a:ea typeface="Microsoft YaHei"/>
              </a:rPr>
              <a:t>C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(</a:t>
            </a:r>
            <a:r>
              <a:rPr b="1" lang="fr-FR" sz="2000" spc="-1" strike="noStrike">
                <a:solidFill>
                  <a:srgbClr val="993366"/>
                </a:solidFill>
                <a:latin typeface="Arial Rounded MT Bold"/>
                <a:ea typeface="Microsoft YaHei"/>
              </a:rPr>
              <a:t>D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)</a:t>
            </a:r>
            <a:r>
              <a:rPr b="0" lang="fr-FR" sz="20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Arial Rounded MT Bold"/>
              </a:rPr>
              <a:t>= min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</a:rPr>
              <a:t> { (15+</a:t>
            </a:r>
            <a:r>
              <a:rPr b="1" lang="fr-FR" sz="2000" spc="-1" strike="noStrike">
                <a:solidFill>
                  <a:srgbClr val="000000"/>
                </a:solidFill>
                <a:latin typeface="Sylfaen"/>
                <a:ea typeface="Microsoft YaHei"/>
              </a:rPr>
              <a:t>∞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</a:rPr>
              <a:t>)</a:t>
            </a:r>
            <a:r>
              <a:rPr b="0" lang="fr-FR" sz="2000" spc="-1" strike="noStrike">
                <a:solidFill>
                  <a:srgbClr val="000000"/>
                </a:solidFill>
                <a:latin typeface="Arial Rounded MT Bold"/>
              </a:rPr>
              <a:t>, (5+0), 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</a:rPr>
              <a:t>(2+ 2</a:t>
            </a:r>
            <a:r>
              <a:rPr b="1" lang="fr-FR" sz="2000" spc="-1" strike="noStrike">
                <a:solidFill>
                  <a:srgbClr val="000000"/>
                </a:solidFill>
                <a:latin typeface="Sylfaen"/>
                <a:ea typeface="Microsoft YaHei"/>
              </a:rPr>
              <a:t>)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Sylfaen"/>
                <a:ea typeface="Microsoft YaHei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Sylfaen"/>
                <a:ea typeface="Microsoft YaHei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Arial Rounded MT Bold"/>
              </a:rPr>
              <a:t>= min</a:t>
            </a:r>
            <a:r>
              <a:rPr b="0" lang="fr-FR" sz="2000" spc="-1" strike="noStrike">
                <a:solidFill>
                  <a:srgbClr val="000000"/>
                </a:solidFill>
                <a:latin typeface="Sylfaen"/>
                <a:ea typeface="Microsoft YaHei"/>
              </a:rPr>
              <a:t> { ∞, 5, 4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Rounded MT Bold"/>
              </a:rPr>
              <a:t>D</a:t>
            </a:r>
            <a:r>
              <a:rPr b="0" lang="fr-FR" sz="1300" spc="-1" strike="noStrike">
                <a:solidFill>
                  <a:srgbClr val="000000"/>
                </a:solidFill>
                <a:latin typeface="Arial Rounded MT Bold"/>
              </a:rPr>
              <a:t>A</a:t>
            </a:r>
            <a:r>
              <a:rPr b="0" lang="fr-FR" sz="2000" spc="-1" strike="noStrike">
                <a:solidFill>
                  <a:srgbClr val="000000"/>
                </a:solidFill>
                <a:latin typeface="Arial Rounded MT Bold"/>
              </a:rPr>
              <a:t>(E) = min {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</a:rPr>
              <a:t>c(</a:t>
            </a:r>
            <a:r>
              <a:rPr b="1" lang="fr-FR" sz="2000" spc="-1" strike="noStrike">
                <a:solidFill>
                  <a:srgbClr val="00ae00"/>
                </a:solidFill>
                <a:latin typeface="Arial Rounded MT Bold"/>
              </a:rPr>
              <a:t>A,B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</a:rPr>
              <a:t>)</a:t>
            </a:r>
            <a:r>
              <a:rPr b="0" lang="fr-FR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</a:rPr>
              <a:t>+</a:t>
            </a:r>
            <a:r>
              <a:rPr b="0" lang="fr-FR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</a:rPr>
              <a:t>D</a:t>
            </a:r>
            <a:r>
              <a:rPr b="1" lang="fr-FR" sz="1300" spc="-1" strike="noStrike">
                <a:solidFill>
                  <a:srgbClr val="00ae00"/>
                </a:solidFill>
                <a:latin typeface="Arial Rounded MT Bold"/>
              </a:rPr>
              <a:t>B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</a:rPr>
              <a:t>(</a:t>
            </a:r>
            <a:r>
              <a:rPr b="1" lang="fr-FR" sz="2000" spc="-1" strike="noStrike">
                <a:solidFill>
                  <a:srgbClr val="00ae00"/>
                </a:solidFill>
                <a:latin typeface="Arial Rounded MT Bold"/>
              </a:rPr>
              <a:t>E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</a:rPr>
              <a:t>)</a:t>
            </a:r>
            <a:r>
              <a:rPr b="0" lang="fr-FR" sz="2000" spc="-1" strike="noStrike">
                <a:solidFill>
                  <a:srgbClr val="000000"/>
                </a:solidFill>
                <a:latin typeface="Arial Rounded MT Bold"/>
              </a:rPr>
              <a:t>,     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</a:rPr>
              <a:t>c(</a:t>
            </a:r>
            <a:r>
              <a:rPr b="1" lang="fr-FR" sz="2000" spc="-1" strike="noStrike">
                <a:solidFill>
                  <a:srgbClr val="000080"/>
                </a:solidFill>
                <a:latin typeface="Arial Rounded MT Bold"/>
              </a:rPr>
              <a:t>A,D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</a:rPr>
              <a:t>) + D</a:t>
            </a:r>
            <a:r>
              <a:rPr b="1" lang="fr-FR" sz="1300" spc="-1" strike="noStrike">
                <a:solidFill>
                  <a:srgbClr val="000080"/>
                </a:solidFill>
                <a:latin typeface="Arial Rounded MT Bold"/>
              </a:rPr>
              <a:t>D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</a:rPr>
              <a:t>(</a:t>
            </a:r>
            <a:r>
              <a:rPr b="1" lang="fr-FR" sz="2000" spc="-1" strike="noStrike">
                <a:solidFill>
                  <a:srgbClr val="000080"/>
                </a:solidFill>
                <a:latin typeface="Arial Rounded MT Bold"/>
              </a:rPr>
              <a:t>E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</a:rPr>
              <a:t>),     c(</a:t>
            </a:r>
            <a:r>
              <a:rPr b="1" lang="fr-FR" sz="2000" spc="-1" strike="noStrike">
                <a:solidFill>
                  <a:srgbClr val="993366"/>
                </a:solidFill>
                <a:latin typeface="Arial Rounded MT Bold"/>
              </a:rPr>
              <a:t>A,C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</a:rPr>
              <a:t>) + D</a:t>
            </a:r>
            <a:r>
              <a:rPr b="1" lang="fr-FR" sz="1300" spc="-1" strike="noStrike">
                <a:solidFill>
                  <a:srgbClr val="993366"/>
                </a:solidFill>
                <a:latin typeface="Arial Rounded MT Bold"/>
              </a:rPr>
              <a:t>C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</a:rPr>
              <a:t>(</a:t>
            </a:r>
            <a:r>
              <a:rPr b="1" lang="fr-FR" sz="2000" spc="-1" strike="noStrike">
                <a:solidFill>
                  <a:srgbClr val="993366"/>
                </a:solidFill>
                <a:latin typeface="Arial Rounded MT Bold"/>
              </a:rPr>
              <a:t>E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</a:rPr>
              <a:t>)</a:t>
            </a:r>
            <a:r>
              <a:rPr b="0" lang="fr-FR" sz="2000" spc="-1" strike="noStrike">
                <a:solidFill>
                  <a:srgbClr val="000000"/>
                </a:solidFill>
                <a:latin typeface="Arial Rounded MT Bold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Arial Rounded MT Bold"/>
              </a:rPr>
              <a:t>= min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</a:rPr>
              <a:t> { (15+2)</a:t>
            </a:r>
            <a:r>
              <a:rPr b="0" lang="fr-FR" sz="2000" spc="-1" strike="noStrike">
                <a:solidFill>
                  <a:srgbClr val="000000"/>
                </a:solidFill>
                <a:latin typeface="Arial Rounded MT Bold"/>
              </a:rPr>
              <a:t>, (5+10), 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</a:rPr>
              <a:t>(2+ </a:t>
            </a:r>
            <a:r>
              <a:rPr b="1" lang="fr-FR" sz="2000" spc="-1" strike="noStrike">
                <a:solidFill>
                  <a:srgbClr val="000000"/>
                </a:solidFill>
                <a:latin typeface="Sylfaen"/>
                <a:ea typeface="Microsoft YaHei"/>
              </a:rPr>
              <a:t>∞)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Sylfaen"/>
                <a:ea typeface="Microsoft YaHei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Sylfaen"/>
                <a:ea typeface="Microsoft YaHei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Arial Rounded MT Bold"/>
              </a:rPr>
              <a:t>= min</a:t>
            </a:r>
            <a:r>
              <a:rPr b="0" lang="fr-FR" sz="2000" spc="-1" strike="noStrike">
                <a:solidFill>
                  <a:srgbClr val="000000"/>
                </a:solidFill>
                <a:latin typeface="Sylfaen"/>
                <a:ea typeface="Microsoft YaHei"/>
              </a:rPr>
              <a:t> { 17, 15, ∞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A will update its entry with the better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Note. The cost A-E is </a:t>
            </a:r>
            <a:r>
              <a:rPr b="1" lang="fr-FR" sz="1800" spc="-1" strike="noStrike">
                <a:solidFill>
                  <a:srgbClr val="ff0000"/>
                </a:solidFill>
                <a:latin typeface="Arial Rounded MT Bold"/>
                <a:ea typeface="Microsoft YaHei"/>
              </a:rPr>
              <a:t>NOT</a:t>
            </a:r>
            <a:r>
              <a:rPr b="0" lang="fr-FR" sz="18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 the least 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0360" y="395280"/>
            <a:ext cx="878508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560" rIns="88560" tIns="43560" bIns="435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2200" spc="-1" strike="noStrike">
                <a:solidFill>
                  <a:srgbClr val="0099cc"/>
                </a:solidFill>
                <a:latin typeface="Arial Rounded MT Bold"/>
              </a:rPr>
              <a:t>In router A: Calculate the Algorithm to reach B, C, D &amp;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859280" y="3095640"/>
          <a:ext cx="4176720" cy="33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3095640"/>
                    <a:ext cx="4176720" cy="33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612880" y="38160"/>
            <a:ext cx="462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4000" spc="-1" strike="noStrike">
                <a:solidFill>
                  <a:srgbClr val="0000ff"/>
                </a:solidFill>
                <a:latin typeface="Arial Rounded MT Bold"/>
              </a:rPr>
              <a:t>IN Distance Victor</a:t>
            </a:r>
            <a:r>
              <a:rPr b="1" lang="en-CA" sz="2200" spc="-1" strike="noStrike">
                <a:solidFill>
                  <a:srgbClr val="000080"/>
                </a:solidFill>
                <a:latin typeface="Arial Rounded MT Bold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961920" y="4443480"/>
          <a:ext cx="2708280" cy="2103480"/>
        </p:xfrm>
        <a:graphic>
          <a:graphicData uri="http://schemas.openxmlformats.org/drawingml/2006/table">
            <a:tbl>
              <a:tblPr/>
              <a:tblGrid>
                <a:gridCol w="347760"/>
                <a:gridCol w="455760"/>
                <a:gridCol w="482400"/>
                <a:gridCol w="511200"/>
                <a:gridCol w="496800"/>
                <a:gridCol w="414360"/>
              </a:tblGrid>
              <a:tr h="402480"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1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8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∞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∞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∞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∞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∞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CA" sz="1500" spc="-1" strike="noStrike">
                          <a:solidFill>
                            <a:srgbClr val="ff0000"/>
                          </a:solidFill>
                          <a:latin typeface="Sylfaen"/>
                          <a:ea typeface="Microsoft YaHei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∞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CA" sz="1500" spc="-1" strike="noStrike">
                          <a:solidFill>
                            <a:srgbClr val="ff0000"/>
                          </a:solidFill>
                          <a:latin typeface="Sylfaen"/>
                          <a:ea typeface="Microsoft YaHei"/>
                        </a:rPr>
                        <a:t>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∞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4859280" y="3095640"/>
          <a:ext cx="4176720" cy="33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3095640"/>
                    <a:ext cx="4176720" cy="33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372960" y="1322280"/>
            <a:ext cx="841212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D</a:t>
            </a:r>
            <a:r>
              <a:rPr b="0" lang="fr-FR" sz="13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B</a:t>
            </a:r>
            <a:r>
              <a:rPr b="0" lang="fr-FR" sz="20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(C) = min {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c(</a:t>
            </a:r>
            <a:r>
              <a:rPr b="1" lang="fr-FR" sz="2000" spc="-1" strike="noStrike">
                <a:solidFill>
                  <a:srgbClr val="00ae00"/>
                </a:solidFill>
                <a:latin typeface="Arial Rounded MT Bold"/>
                <a:ea typeface="Microsoft YaHei"/>
              </a:rPr>
              <a:t>B,A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)</a:t>
            </a:r>
            <a:r>
              <a:rPr b="0" lang="fr-FR" sz="20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+</a:t>
            </a:r>
            <a:r>
              <a:rPr b="0" lang="fr-FR" sz="20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D</a:t>
            </a:r>
            <a:r>
              <a:rPr b="1" lang="fr-FR" sz="1300" spc="-1" strike="noStrike">
                <a:solidFill>
                  <a:srgbClr val="00ae00"/>
                </a:solidFill>
                <a:latin typeface="Arial Rounded MT Bold"/>
                <a:ea typeface="Microsoft YaHei"/>
              </a:rPr>
              <a:t>A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(</a:t>
            </a:r>
            <a:r>
              <a:rPr b="1" lang="fr-FR" sz="2000" spc="-1" strike="noStrike">
                <a:solidFill>
                  <a:srgbClr val="00ae00"/>
                </a:solidFill>
                <a:latin typeface="Arial Rounded MT Bold"/>
                <a:ea typeface="Microsoft YaHei"/>
              </a:rPr>
              <a:t>C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)</a:t>
            </a:r>
            <a:r>
              <a:rPr b="0" lang="fr-FR" sz="20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,     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c(</a:t>
            </a:r>
            <a:r>
              <a:rPr b="1" lang="fr-FR" sz="2000" spc="-1" strike="noStrike">
                <a:solidFill>
                  <a:srgbClr val="000080"/>
                </a:solidFill>
                <a:latin typeface="Arial Rounded MT Bold"/>
                <a:ea typeface="Microsoft YaHei"/>
              </a:rPr>
              <a:t>B,E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) + D</a:t>
            </a:r>
            <a:r>
              <a:rPr b="1" lang="fr-FR" sz="1300" spc="-1" strike="noStrike">
                <a:solidFill>
                  <a:srgbClr val="000080"/>
                </a:solidFill>
                <a:latin typeface="Arial Rounded MT Bold"/>
                <a:ea typeface="Microsoft YaHei"/>
              </a:rPr>
              <a:t>E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(</a:t>
            </a:r>
            <a:r>
              <a:rPr b="1" lang="fr-FR" sz="2000" spc="-1" strike="noStrike">
                <a:solidFill>
                  <a:srgbClr val="000080"/>
                </a:solidFill>
                <a:latin typeface="Arial Rounded MT Bold"/>
                <a:ea typeface="Microsoft YaHei"/>
              </a:rPr>
              <a:t>C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)  </a:t>
            </a:r>
            <a:r>
              <a:rPr b="0" lang="fr-FR" sz="20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Arial Rounded MT Bold"/>
              </a:rPr>
              <a:t>= min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</a:rPr>
              <a:t> { (15+</a:t>
            </a:r>
            <a:r>
              <a:rPr b="1" lang="fr-FR" sz="2000" spc="-1" strike="noStrike">
                <a:solidFill>
                  <a:srgbClr val="000000"/>
                </a:solidFill>
                <a:latin typeface="Sylfaen"/>
                <a:ea typeface="Microsoft YaHei"/>
              </a:rPr>
              <a:t>2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</a:rPr>
              <a:t>)</a:t>
            </a:r>
            <a:r>
              <a:rPr b="0" lang="fr-FR" sz="2000" spc="-1" strike="noStrike">
                <a:solidFill>
                  <a:srgbClr val="000000"/>
                </a:solidFill>
                <a:latin typeface="Arial Rounded MT Bold"/>
              </a:rPr>
              <a:t>, (2+</a:t>
            </a:r>
            <a:r>
              <a:rPr b="0" lang="fr-FR" sz="2000" spc="-1" strike="noStrike">
                <a:solidFill>
                  <a:srgbClr val="000000"/>
                </a:solidFill>
                <a:latin typeface="Sylfaen"/>
                <a:ea typeface="Microsoft YaHei"/>
              </a:rPr>
              <a:t>∞</a:t>
            </a:r>
            <a:r>
              <a:rPr b="0" lang="fr-FR" sz="2000" spc="-1" strike="noStrike">
                <a:solidFill>
                  <a:srgbClr val="000000"/>
                </a:solidFill>
                <a:latin typeface="Arial Rounded MT Bold"/>
              </a:rPr>
              <a:t>)</a:t>
            </a:r>
            <a:r>
              <a:rPr b="1" lang="fr-FR" sz="2000" spc="-1" strike="noStrike">
                <a:solidFill>
                  <a:srgbClr val="000000"/>
                </a:solidFill>
                <a:latin typeface="Sylfaen"/>
                <a:ea typeface="Microsoft YaHei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Rounded MT Bold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Arial Rounded MT Bold"/>
              </a:rPr>
              <a:t>D</a:t>
            </a:r>
            <a:r>
              <a:rPr b="0" lang="fr-FR" sz="1300" spc="-1" strike="noStrike">
                <a:solidFill>
                  <a:srgbClr val="000000"/>
                </a:solidFill>
                <a:latin typeface="Arial Rounded MT Bold"/>
              </a:rPr>
              <a:t>B</a:t>
            </a:r>
            <a:r>
              <a:rPr b="0" lang="fr-FR" sz="2000" spc="-1" strike="noStrike">
                <a:solidFill>
                  <a:srgbClr val="000000"/>
                </a:solidFill>
                <a:latin typeface="Arial Rounded MT Bold"/>
              </a:rPr>
              <a:t>(D) = min {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</a:rPr>
              <a:t>c(</a:t>
            </a:r>
            <a:r>
              <a:rPr b="1" lang="fr-FR" sz="2000" spc="-1" strike="noStrike">
                <a:solidFill>
                  <a:srgbClr val="00ae00"/>
                </a:solidFill>
                <a:latin typeface="Arial Rounded MT Bold"/>
              </a:rPr>
              <a:t>B,A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</a:rPr>
              <a:t>)</a:t>
            </a:r>
            <a:r>
              <a:rPr b="0" lang="fr-FR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</a:rPr>
              <a:t>+</a:t>
            </a:r>
            <a:r>
              <a:rPr b="0" lang="fr-FR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</a:rPr>
              <a:t>D</a:t>
            </a:r>
            <a:r>
              <a:rPr b="1" lang="fr-FR" sz="1300" spc="-1" strike="noStrike">
                <a:solidFill>
                  <a:srgbClr val="00ae00"/>
                </a:solidFill>
                <a:latin typeface="Arial Rounded MT Bold"/>
              </a:rPr>
              <a:t>A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</a:rPr>
              <a:t>(</a:t>
            </a:r>
            <a:r>
              <a:rPr b="1" lang="fr-FR" sz="2000" spc="-1" strike="noStrike">
                <a:solidFill>
                  <a:srgbClr val="00ae00"/>
                </a:solidFill>
                <a:latin typeface="Arial Rounded MT Bold"/>
              </a:rPr>
              <a:t>D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</a:rPr>
              <a:t>)</a:t>
            </a:r>
            <a:r>
              <a:rPr b="0" lang="fr-FR" sz="2000" spc="-1" strike="noStrike">
                <a:solidFill>
                  <a:srgbClr val="000000"/>
                </a:solidFill>
                <a:latin typeface="Arial Rounded MT Bold"/>
              </a:rPr>
              <a:t>,     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</a:rPr>
              <a:t>c(</a:t>
            </a:r>
            <a:r>
              <a:rPr b="1" lang="fr-FR" sz="2000" spc="-1" strike="noStrike">
                <a:solidFill>
                  <a:srgbClr val="000080"/>
                </a:solidFill>
                <a:latin typeface="Arial Rounded MT Bold"/>
              </a:rPr>
              <a:t>B,E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</a:rPr>
              <a:t>) + D</a:t>
            </a:r>
            <a:r>
              <a:rPr b="1" lang="fr-FR" sz="1300" spc="-1" strike="noStrike">
                <a:solidFill>
                  <a:srgbClr val="000080"/>
                </a:solidFill>
                <a:latin typeface="Arial Rounded MT Bold"/>
              </a:rPr>
              <a:t>E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</a:rPr>
              <a:t>(</a:t>
            </a:r>
            <a:r>
              <a:rPr b="1" lang="fr-FR" sz="2000" spc="-1" strike="noStrike">
                <a:solidFill>
                  <a:srgbClr val="000080"/>
                </a:solidFill>
                <a:latin typeface="Arial Rounded MT Bold"/>
              </a:rPr>
              <a:t>D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</a:rPr>
              <a:t>)  </a:t>
            </a:r>
            <a:r>
              <a:rPr b="0" lang="fr-FR" sz="2000" spc="-1" strike="noStrike">
                <a:solidFill>
                  <a:srgbClr val="000000"/>
                </a:solidFill>
                <a:latin typeface="Arial Rounded MT Bold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Arial Rounded MT Bold"/>
              </a:rPr>
              <a:t>= min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</a:rPr>
              <a:t> { (15+5)</a:t>
            </a:r>
            <a:r>
              <a:rPr b="0" lang="fr-FR" sz="2000" spc="-1" strike="noStrike">
                <a:solidFill>
                  <a:srgbClr val="000000"/>
                </a:solidFill>
                <a:latin typeface="Arial Rounded MT Bold"/>
              </a:rPr>
              <a:t>, (2+10)</a:t>
            </a:r>
            <a:r>
              <a:rPr b="1" lang="fr-FR" sz="2000" spc="-1" strike="noStrike">
                <a:solidFill>
                  <a:srgbClr val="000000"/>
                </a:solidFill>
                <a:latin typeface="Sylfaen"/>
                <a:ea typeface="Microsoft YaHei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B will update its entry with the better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 Rounded MT Bold"/>
                <a:ea typeface="Microsoft YaHei"/>
              </a:rPr>
              <a:t>Notice that the cost from B to C is not the least cost beca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 Rounded MT Bold"/>
                <a:ea typeface="Microsoft YaHei"/>
              </a:rPr>
              <a:t>the network did not converage yet and it needs 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 Rounded MT Bold"/>
                <a:ea typeface="Microsoft YaHei"/>
              </a:rPr>
              <a:t>updates from the adjacenci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0360" y="395280"/>
            <a:ext cx="878508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560" rIns="88560" tIns="43560" bIns="435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2200" spc="-1" strike="noStrike">
                <a:solidFill>
                  <a:srgbClr val="0099cc"/>
                </a:solidFill>
                <a:latin typeface="Arial Rounded MT Bold"/>
              </a:rPr>
              <a:t>In router B: Calculate the Algorithm to reach A, C, D &amp;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12880" y="38160"/>
            <a:ext cx="462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4000" spc="-1" strike="noStrike">
                <a:solidFill>
                  <a:srgbClr val="0000ff"/>
                </a:solidFill>
                <a:latin typeface="Arial Rounded MT Bold"/>
              </a:rPr>
              <a:t>IN Distance Victor</a:t>
            </a:r>
            <a:r>
              <a:rPr b="1" lang="en-CA" sz="2200" spc="-1" strike="noStrike">
                <a:solidFill>
                  <a:srgbClr val="000080"/>
                </a:solidFill>
                <a:latin typeface="Arial Rounded MT Bold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961920" y="4443480"/>
          <a:ext cx="2708280" cy="2103480"/>
        </p:xfrm>
        <a:graphic>
          <a:graphicData uri="http://schemas.openxmlformats.org/drawingml/2006/table">
            <a:tbl>
              <a:tblPr/>
              <a:tblGrid>
                <a:gridCol w="347760"/>
                <a:gridCol w="455760"/>
                <a:gridCol w="482400"/>
                <a:gridCol w="511200"/>
                <a:gridCol w="496800"/>
                <a:gridCol w="414360"/>
              </a:tblGrid>
              <a:tr h="402480"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1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8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∞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∞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∞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CA" sz="1500" spc="-1" strike="noStrike">
                          <a:solidFill>
                            <a:srgbClr val="0000ff"/>
                          </a:solidFill>
                          <a:latin typeface="Sylfaen"/>
                          <a:ea typeface="Microsoft YaHei"/>
                        </a:rPr>
                        <a:t>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∞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CA" sz="1500" spc="-1" strike="noStrike">
                          <a:solidFill>
                            <a:srgbClr val="ff0000"/>
                          </a:solidFill>
                          <a:latin typeface="Sylfaen"/>
                          <a:ea typeface="Microsoft YaHei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CA" sz="1500" spc="-1" strike="noStrike">
                          <a:solidFill>
                            <a:srgbClr val="0000ff"/>
                          </a:solidFill>
                          <a:latin typeface="Sylfaen"/>
                          <a:ea typeface="Microsoft YaHei"/>
                        </a:rPr>
                        <a:t>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CA" sz="1500" spc="-1" strike="noStrike">
                          <a:solidFill>
                            <a:srgbClr val="ff0000"/>
                          </a:solidFill>
                          <a:latin typeface="Sylfaen"/>
                          <a:ea typeface="Microsoft YaHei"/>
                        </a:rPr>
                        <a:t>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∞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72960" y="2006640"/>
            <a:ext cx="841212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 Rounded MT Bold"/>
                <a:ea typeface="Microsoft YaHei"/>
              </a:rPr>
              <a:t>Notice the table, each column is exactly equal the same r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Column A = row 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Column B = row 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 Rounded MT Bold"/>
                <a:ea typeface="Microsoft YaHei"/>
              </a:rPr>
              <a:t>Final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0360" y="1440000"/>
            <a:ext cx="878508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560" rIns="88560" tIns="43560" bIns="435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2200" spc="-1" strike="noStrike">
                <a:solidFill>
                  <a:srgbClr val="0099cc"/>
                </a:solidFill>
                <a:latin typeface="Arial Rounded MT Bold"/>
              </a:rPr>
              <a:t>Every node will send triggered updates after any change in the tab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2200" spc="-1" strike="noStrike">
                <a:solidFill>
                  <a:srgbClr val="0099cc"/>
                </a:solidFill>
                <a:latin typeface="Arial Rounded MT Bold"/>
              </a:rPr>
              <a:t>After some time (exchanging updates) the network will converge and each node will have the shortest path to each destin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844880" y="3095640"/>
          <a:ext cx="4154760" cy="33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4880" y="3095640"/>
                    <a:ext cx="4154760" cy="33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4535640" y="438768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1600" spc="-1" strike="noStrike">
                <a:solidFill>
                  <a:srgbClr val="3366cc"/>
                </a:solidFill>
                <a:latin typeface="Arial"/>
              </a:rPr>
              <a:t>SPT for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12880" y="38160"/>
            <a:ext cx="462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4000" spc="-1" strike="noStrike">
                <a:solidFill>
                  <a:srgbClr val="0000ff"/>
                </a:solidFill>
                <a:latin typeface="Arial Rounded MT Bold"/>
              </a:rPr>
              <a:t>IN Distance Victor</a:t>
            </a:r>
            <a:r>
              <a:rPr b="1" lang="en-CA" sz="2200" spc="-1" strike="noStrike">
                <a:solidFill>
                  <a:srgbClr val="000080"/>
                </a:solidFill>
                <a:latin typeface="Arial Rounded MT Bold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961920" y="4335480"/>
          <a:ext cx="2708280" cy="2103480"/>
        </p:xfrm>
        <a:graphic>
          <a:graphicData uri="http://schemas.openxmlformats.org/drawingml/2006/table">
            <a:tbl>
              <a:tblPr/>
              <a:tblGrid>
                <a:gridCol w="347760"/>
                <a:gridCol w="455760"/>
                <a:gridCol w="482400"/>
                <a:gridCol w="511200"/>
                <a:gridCol w="496800"/>
                <a:gridCol w="414360"/>
              </a:tblGrid>
              <a:tr h="402480"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1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CA" sz="1500" spc="-1" strike="noStrike">
                          <a:solidFill>
                            <a:srgbClr val="ff00ff"/>
                          </a:solidFill>
                          <a:latin typeface="Sylfaen"/>
                          <a:ea typeface="Microsoft YaHei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8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CA" sz="1500" spc="-1" strike="noStrike">
                          <a:solidFill>
                            <a:srgbClr val="0099ff"/>
                          </a:solidFill>
                          <a:latin typeface="Sylfaen"/>
                          <a:ea typeface="Microsoft YaHei"/>
                        </a:rPr>
                        <a:t>1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CA" sz="1500" spc="-1" strike="noStrike">
                          <a:solidFill>
                            <a:srgbClr val="579d1c"/>
                          </a:solidFill>
                          <a:latin typeface="Sylfaen"/>
                          <a:ea typeface="Microsoft YaHei"/>
                        </a:rPr>
                        <a:t>1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CA" sz="1500" spc="-1" strike="noStrike">
                          <a:solidFill>
                            <a:srgbClr val="ff00ff"/>
                          </a:solidFill>
                          <a:latin typeface="Sylfaen"/>
                          <a:ea typeface="Microsoft YaHei"/>
                        </a:rPr>
                        <a:t>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CA" sz="1500" spc="-1" strike="noStrike">
                          <a:solidFill>
                            <a:srgbClr val="0000ff"/>
                          </a:solidFill>
                          <a:latin typeface="Sylfaen"/>
                          <a:ea typeface="Microsoft YaHei"/>
                        </a:rPr>
                        <a:t>1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CA" sz="1500" spc="-1" strike="noStrike">
                          <a:solidFill>
                            <a:srgbClr val="0099ff"/>
                          </a:solidFill>
                          <a:latin typeface="Sylfaen"/>
                          <a:ea typeface="Microsoft YaHei"/>
                        </a:rPr>
                        <a:t>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CA" sz="1500" spc="-1" strike="noStrike">
                          <a:solidFill>
                            <a:srgbClr val="ff0000"/>
                          </a:solidFill>
                          <a:latin typeface="Sylfaen"/>
                          <a:ea typeface="Microsoft YaHei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CA" sz="1500" spc="-1" strike="noStrike">
                          <a:solidFill>
                            <a:srgbClr val="0000ff"/>
                          </a:solidFill>
                          <a:latin typeface="Sylfaen"/>
                          <a:ea typeface="Microsoft YaHei"/>
                        </a:rPr>
                        <a:t>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CA" sz="1500" spc="-1" strike="noStrike">
                          <a:solidFill>
                            <a:srgbClr val="ff0000"/>
                          </a:solidFill>
                          <a:latin typeface="Sylfaen"/>
                          <a:ea typeface="Microsoft YaHei"/>
                        </a:rPr>
                        <a:t>1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CA" sz="1500" spc="-1" strike="noStrike">
                          <a:solidFill>
                            <a:srgbClr val="00ae00"/>
                          </a:solidFill>
                          <a:latin typeface="Sylfaen"/>
                          <a:ea typeface="Microsoft YaHei"/>
                        </a:rPr>
                        <a:t>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503280" y="3265560"/>
            <a:ext cx="841212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      </a:t>
            </a:r>
            <a:r>
              <a:rPr b="1" lang="fr-FR" sz="1600" spc="-1" strike="noStrike">
                <a:solidFill>
                  <a:srgbClr val="ff0000"/>
                </a:solidFill>
                <a:latin typeface="Arial Rounded MT Bold"/>
                <a:ea typeface="Microsoft YaHei"/>
              </a:rPr>
              <a:t>Final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 Rounded MT Bold"/>
                <a:ea typeface="Microsoft YaHei"/>
              </a:rPr>
              <a:t>Note : The cost to reach D is 1 since it is directly connected. Yet it would be better if  the packet went through 2 hops since the cost is less((2+2) &lt; 5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836640"/>
            <a:ext cx="8785080" cy="23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560" rIns="88560" tIns="43560" bIns="43560" anchor="b">
            <a:noAutofit/>
          </a:bodyPr>
          <a:p>
            <a:pPr>
              <a:lnSpc>
                <a:spcPct val="100000"/>
              </a:lnSpc>
              <a:spcBef>
                <a:spcPts val="1701"/>
              </a:spcBef>
              <a:spcAft>
                <a:spcPts val="17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RIP is a Distance Victor routing protocol that uses hop count as the cost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RIP routing table is calculated the same way using Bellman Algorithm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When equal cost path are founded, the first update or the orignal entry is kep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35640" y="438768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1600" spc="-1" strike="noStrike">
                <a:solidFill>
                  <a:srgbClr val="3366cc"/>
                </a:solidFill>
                <a:latin typeface="Arial"/>
              </a:rPr>
              <a:t>SPT for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612880" y="38160"/>
            <a:ext cx="462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4000" spc="-1" strike="noStrike">
                <a:solidFill>
                  <a:srgbClr val="0000ff"/>
                </a:solidFill>
                <a:latin typeface="Arial Rounded MT Bold"/>
              </a:rPr>
              <a:t>IN RIP</a:t>
            </a:r>
            <a:r>
              <a:rPr b="1" lang="en-CA" sz="2200" spc="-1" strike="noStrike">
                <a:solidFill>
                  <a:srgbClr val="000080"/>
                </a:solidFill>
                <a:latin typeface="Arial Rounded MT Bold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859280" y="3095640"/>
          <a:ext cx="4176720" cy="33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3095640"/>
                    <a:ext cx="4176720" cy="33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 flipV="1">
            <a:off x="5688000" y="3668760"/>
            <a:ext cx="1152360" cy="961920"/>
          </a:xfrm>
          <a:prstGeom prst="line">
            <a:avLst/>
          </a:prstGeom>
          <a:ln cap="sq" w="6840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904000" y="4843440"/>
            <a:ext cx="863640" cy="1440"/>
          </a:xfrm>
          <a:prstGeom prst="line">
            <a:avLst/>
          </a:prstGeom>
          <a:ln cap="sq" w="6840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5111640"/>
            <a:ext cx="1008360" cy="647640"/>
          </a:xfrm>
          <a:prstGeom prst="line">
            <a:avLst/>
          </a:prstGeom>
          <a:ln cap="sq" w="6840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199280" y="3743280"/>
            <a:ext cx="1152720" cy="863640"/>
          </a:xfrm>
          <a:prstGeom prst="line">
            <a:avLst/>
          </a:prstGeom>
          <a:ln cap="sq" w="6840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61920" y="3687840"/>
          <a:ext cx="2708280" cy="2103480"/>
        </p:xfrm>
        <a:graphic>
          <a:graphicData uri="http://schemas.openxmlformats.org/drawingml/2006/table">
            <a:tbl>
              <a:tblPr/>
              <a:tblGrid>
                <a:gridCol w="347760"/>
                <a:gridCol w="455760"/>
                <a:gridCol w="482400"/>
                <a:gridCol w="511200"/>
                <a:gridCol w="496800"/>
                <a:gridCol w="414360"/>
              </a:tblGrid>
              <a:tr h="402480"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1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8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03280" y="3265560"/>
            <a:ext cx="841212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      </a:t>
            </a:r>
            <a:r>
              <a:rPr b="1" lang="fr-FR" sz="1600" spc="-1" strike="noStrike">
                <a:solidFill>
                  <a:srgbClr val="ff0000"/>
                </a:solidFill>
                <a:latin typeface="Arial Rounded MT Bold"/>
                <a:ea typeface="Microsoft YaHei"/>
              </a:rPr>
              <a:t>Final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 Rounded MT Bold"/>
                <a:ea typeface="Microsoft YaHei"/>
              </a:rPr>
              <a:t>Note : The cost reach D is 1 since it is directly connected. Yet it would be better if  the packet went through 2 hops since the cost is less((2+2) &lt; 5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836640"/>
            <a:ext cx="8785080" cy="23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560" rIns="88560" tIns="43560" bIns="43560" anchor="b">
            <a:noAutofit/>
          </a:bodyPr>
          <a:p>
            <a:pPr>
              <a:lnSpc>
                <a:spcPct val="100000"/>
              </a:lnSpc>
              <a:spcBef>
                <a:spcPts val="1701"/>
              </a:spcBef>
              <a:spcAft>
                <a:spcPts val="17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RIP is a Distance Victor routing protocol that uses hop count as the cost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RIP routing table is calculated the same way using Bellman Algorithm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When equal cost path are founded, the first update or the orignal entry is kep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35640" y="438768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1600" spc="-1" strike="noStrike">
                <a:solidFill>
                  <a:srgbClr val="3366cc"/>
                </a:solidFill>
                <a:latin typeface="Arial"/>
              </a:rPr>
              <a:t>SPT for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12880" y="38160"/>
            <a:ext cx="462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4000" spc="-1" strike="noStrike">
                <a:solidFill>
                  <a:srgbClr val="0000ff"/>
                </a:solidFill>
                <a:latin typeface="Arial Rounded MT Bold"/>
              </a:rPr>
              <a:t>IN RIP</a:t>
            </a:r>
            <a:r>
              <a:rPr b="1" lang="en-CA" sz="2200" spc="-1" strike="noStrike">
                <a:solidFill>
                  <a:srgbClr val="000080"/>
                </a:solidFill>
                <a:latin typeface="Arial Rounded MT Bold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859280" y="3095640"/>
          <a:ext cx="4176720" cy="33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3095640"/>
                    <a:ext cx="4176720" cy="33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 flipV="1">
            <a:off x="5688000" y="3668760"/>
            <a:ext cx="1152360" cy="961920"/>
          </a:xfrm>
          <a:prstGeom prst="line">
            <a:avLst/>
          </a:prstGeom>
          <a:ln cap="sq" w="6840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904000" y="4843440"/>
            <a:ext cx="863640" cy="1440"/>
          </a:xfrm>
          <a:prstGeom prst="line">
            <a:avLst/>
          </a:prstGeom>
          <a:ln cap="sq" w="6840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9280" y="5111640"/>
            <a:ext cx="1008360" cy="647640"/>
          </a:xfrm>
          <a:prstGeom prst="line">
            <a:avLst/>
          </a:prstGeom>
          <a:ln cap="sq" w="6840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99280" y="3743280"/>
            <a:ext cx="1152720" cy="863640"/>
          </a:xfrm>
          <a:prstGeom prst="line">
            <a:avLst/>
          </a:prstGeom>
          <a:ln cap="sq" w="6840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961920" y="3687840"/>
          <a:ext cx="2708280" cy="2103480"/>
        </p:xfrm>
        <a:graphic>
          <a:graphicData uri="http://schemas.openxmlformats.org/drawingml/2006/table">
            <a:tbl>
              <a:tblPr/>
              <a:tblGrid>
                <a:gridCol w="347760"/>
                <a:gridCol w="455760"/>
                <a:gridCol w="482400"/>
                <a:gridCol w="511200"/>
                <a:gridCol w="496800"/>
                <a:gridCol w="414360"/>
              </a:tblGrid>
              <a:tr h="402480"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1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8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07:59:00Z</dcterms:created>
  <dc:creator>leboudec</dc:creator>
  <dc:description/>
  <dc:language>en-US</dc:language>
  <cp:lastModifiedBy/>
  <dcterms:modified xsi:type="dcterms:W3CDTF">2012-12-03T00:45:23Z</dcterms:modified>
  <cp:revision>383</cp:revision>
  <dc:subject/>
  <dc:title>Slide 1</dc:title>
</cp:coreProperties>
</file>